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8EAA-11C0-4987-AAA7-51C26EAD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08BF-0B60-4C70-A104-3C3FE6DCC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8F2D-1158-41EB-AD2C-823B0F935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454D-6209-48AF-9942-E0045A39E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3502-6179-4254-A2B1-B00235E48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447E-6F98-44EE-85ED-C3A6D7E9F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E8EF-AD96-42B0-A028-13B1029D1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990E-E3C5-4E04-9C8A-9B5A20D97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0E78-3D5E-4494-8B12-515793455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27FF-88E7-4947-94DE-BEAC9F20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F874-1379-4D2A-A94E-8C10D4A6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2F5B-19AE-43DE-AE2D-D3E2EB8CB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Bank Reconcil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B1DA-95C2-402E-B7EF-9F7150AD6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29DC-486A-4A51-9EF4-68E23088D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nd describe the features on the Reconcil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08AC-0056-4883-A825-58B48D305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2F25-5AB6-4196-82ED-FDBC1179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09E6-AA43-4F6D-9B1E-1483649A0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2A0A-94E7-4D50-BC21-8A27ECEB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E70F-D67F-44B7-B813-A0163B59A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D20A-89C3-4EAD-8C17-529EEB250AF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49B3-3DEA-435B-83A6-2C6190694FA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A8D8-5A85-4531-9BC0-D863D7CE1DC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ED8A-5F66-4711-ABEA-34CB3866C06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FADC-9BF4-4424-BFD1-8B0B73A646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D38E-7407-4D56-9BE2-DE8473C91E3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32FC-2E9B-4608-BD8A-63D715D65BA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9A20-2B85-4F1A-BE46-2381B45F67C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F2BA-963C-467D-A3BA-60A3F22FA15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082FD-AB87-4C15-81B2-E8A98C75011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6314-9044-48EA-907C-D2F8A7542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13D7-C5CF-4C08-8F07-AAD7A1CFB08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0D3E-33F5-4998-B884-2CCF3A993FA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F584-DFE1-434A-879A-632E7C7E11A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B0236-6863-4BD1-BFB2-D91F2FE75EF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9EDB-DD53-4BC3-998B-7D6558E6435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E75E9-BD78-4B85-8BC4-44BFF796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59192-8713-43C7-B6D1-B55D5F0F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AA5D4-E012-41C4-A9C8-F16151A0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F9DA5-FE57-4C2E-98DD-6D5295F5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F1302-A546-46D8-9C47-08DB6458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F123-1E52-44E2-8C27-04C9866413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A7C67-7E3D-44AE-A662-72850C75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C6DE5-947D-40F3-A10B-7E761331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0FB58-DDF9-4F77-9955-2F43DD0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98101-91E5-4732-BA83-20BB0C61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586AF-EFB0-491A-BC51-0D132662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17D27-E5D9-4735-8A78-62EF7249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C79AE-146F-44A7-86F9-294896E2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39478-CF90-4708-85B7-D4F7884A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D2E92-D44F-44E7-945C-41DE4531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22664-0406-4F17-8E72-D1E55DD7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C124-DB20-4849-A38E-E023522B67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1E4A7-E974-48AC-8249-B72B68E9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9F276-ADA0-48AD-AF2E-5897BCCD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CE8E5-FC16-4B69-9667-68A78261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406AB-2951-4D34-B991-E597FD80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B9F79-2539-4FB7-9584-7CE360AE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C23D6-7BBC-4E4E-839F-EDB46023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9D831-A66C-47DD-8094-0ED90694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D2C5F-D7CF-4B81-A6D7-27F7772B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9CE53-3DFC-4F22-8B26-1365DAB9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62208-53CF-43F6-98E8-38BC43B5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3914-86DE-41D6-9286-D4E1B05435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F2C49-7707-4B14-ABC9-32983FC2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5E247-56AC-4ABE-BC61-53DFB13C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EB602-7B09-4FCA-8075-D21F9663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73E5B-713B-4CC3-BC0C-14DE8E09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973E6-BB93-46B5-98A8-FF7CC869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A0209-2DAD-4841-8ECE-20A0451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98FC09-A87F-49D1-ADCB-F866590F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8A4380-1740-451A-93BE-72421CA1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B8C82C-2EF3-4FEE-92DC-227EF642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D0837-9A27-49EB-800E-A5D6CBEC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143A-4AA7-49EC-951C-0C94D9E2AA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32719-D003-4BEE-BC17-D0AA98A3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02428-0A4E-422B-B9C0-D1B89B77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6242A-EC13-4184-A11A-BC2BF637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162A7-2533-4D19-A08A-ACE666D1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4E613-10B9-40E1-B4E7-D1167C5E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F3270-A37F-49EF-BA1E-573D254F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6E689-6AE1-4920-BA3E-9E5A84E1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AC5B2-1B03-4CF0-A286-8A5A05EE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74554-6B0E-43DC-ADE5-5BE4FE6E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D0D4E-0E00-4D72-8BCD-58990C0F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D810-00BF-4562-8437-0E5B3D4E067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73F59-D899-4668-972E-6FDAC6F6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DB990-2B52-4638-8227-4233663D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C1436-6DD9-4B38-9C30-269DF9F1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C2BBC-71E3-475C-94A0-3675D35F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5CD0E-77A3-4E49-A29D-98EA7319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9B1B3-34AF-4EE2-ACBA-13C82727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E0FE7-2480-4CA6-8310-EBF8B34B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89709-6599-4E4A-A73E-257677FF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F4DD7-7A36-4584-AC3C-93FC9BB3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D5A92-16C7-4FE6-A458-9072F6F3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37F3-DE20-481C-B2F6-1B381B0780D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82F42-E2D0-49FE-BDB5-4567949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2E774-50A1-432C-8648-CCE2D93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4EEE6-0734-4FF2-A151-04987B33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13B8F-60EB-4FB2-B6C6-E92D3649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48657-557E-4F69-AF62-C8F4AE90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B10556-3F66-4CA3-A77F-CCA2F3FE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93075-2B01-4457-A0C6-F2C7C8BA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693AE-0CCA-41B0-B546-7ABBE5B9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64882-B3D2-4C6B-B6AD-571B8DD8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133E0-17B1-421C-9233-75CFD2E7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BA6A-2CC9-48B6-91A3-B74177AA70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8ECCF8-A548-451F-B369-51ABBB91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1EB53-7801-4766-B873-A09B4A47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BE540-6098-4CB2-99FE-054F85E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B94D69-CD20-46DC-A4B6-DF67649A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C5352-2C5B-475F-9F8E-D186C1C1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7DB3F-5936-4BDC-8534-ECD9416A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EE4E37-AC44-4077-9C51-F7473998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90A8-20F1-4C88-B6E0-BD85328176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6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54B7-21FA-41E6-A969-9CA7234FFD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0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E554-16F7-44B9-B317-5C23434ECC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9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3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C118-D1D8-4938-944C-FB0C0A937F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9AA9-A5FC-4209-8EBA-03112CBBC0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29EB-5BAA-4ED4-9BD6-E1C6938CD3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3EEC-168C-4027-827A-8FF69896F8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9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A31B-D6A2-44B9-AEA7-99FDEC0DD6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Rectangle 7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16840" cy="213984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automatically makes a reversing entry using the date of the current bank statement and same account that you used on the original trans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wo transactions cancel each other 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the difference is not zero when you click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concile Now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n the Reconcile window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transaction is created in the bank account for the differe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transaction is coded to the Reconciliation Discrepancies expense accoun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Correct the problem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lete the transaction that is coded to Reconciliation Discrepanc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o the Last Reconcili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erform the bank reconciliation again correctly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4" name=""/>
          <p:cNvSpPr txBox="1"/>
          <p:nvPr/>
        </p:nvSpPr>
        <p:spPr>
          <a:xfrm>
            <a:off x="457200" y="1676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unced checks are also know as NSF (non-sufficient fund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 two new transactions to your bank account register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e for the amount of the check that bounc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e for the fee charged by the ban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charge your customers a service fee for processing their NSF check, enter an Invoice for the custom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transaction in the bank account register and code it to Bank Service Charges using the actual date that the bank charged your accou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r vendor charges an extra fee for bouncing a check, enter a Bill (or use Write Checks) and code the charge to the Bank Service Charge accou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dit card accounts should be reconciled every mont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fter the reconciliation of credit cards, QuickBooks asks if it should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rite a check for payment no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er a bill for payment la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don’t want to pay the whole amount due on a credit card, edit the original Bill to match the amount you actually intend to pa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Picture 5" descr="C:\Users\DPEMBR~1\AppData\Local\Temp\SNAGHTML5a99f38.PNG"/>
          <p:cNvPicPr/>
          <p:nvPr/>
        </p:nvPicPr>
        <p:blipFill>
          <a:blip r:embed="rId1"/>
          <a:stretch/>
        </p:blipFill>
        <p:spPr>
          <a:xfrm>
            <a:off x="1957320" y="2209680"/>
            <a:ext cx="5229360" cy="4157640"/>
          </a:xfrm>
          <a:prstGeom prst="rect">
            <a:avLst/>
          </a:prstGeom>
          <a:ln w="0">
            <a:noFill/>
          </a:ln>
        </p:spPr>
      </p:pic>
      <p:pic>
        <p:nvPicPr>
          <p:cNvPr id="1500" name="Title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cessing Transactions Onl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Oval 4"/>
          <p:cNvSpPr/>
          <p:nvPr/>
        </p:nvSpPr>
        <p:spPr>
          <a:xfrm>
            <a:off x="4267080" y="4419720"/>
            <a:ext cx="152424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3" descr=""/>
          <p:cNvPicPr/>
          <p:nvPr/>
        </p:nvPicPr>
        <p:blipFill>
          <a:blip r:embed="rId2"/>
          <a:stretch/>
        </p:blipFill>
        <p:spPr>
          <a:xfrm>
            <a:off x="1066680" y="1627200"/>
            <a:ext cx="708984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concile your checking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bank reconciliation repor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nd errors during reconcili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rrect errors found during reconcili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corrections when QuickBooks automatically adjusts the balance in a bank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andle bounced chec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concile credit card accounts and record a bill for later payme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nline Bank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concile your checking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bank reconciliation repor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nd errors during reconcili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rrect errors found during reconcili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corrections when QuickBooks automatically adjusts the balance in a bank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andle bounced check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concile credit card accounts and record a bill for later payme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nline Bank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nk account should be reconciled each mon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reconcile a bank accoun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ank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menu, and then select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Reconcile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nd select accou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eck Beginning balance should match the bank beginning bala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ter statement date, Ending balance, service charge and Interest earn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ch each line with the bank statemen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tch the deposits and other credit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tch the checks and other withdrawals on the bank statemen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fferen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ield should be 0.00 when finis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concile Now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pause reconciliation, cl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ea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Picture 4" descr="C:\Users\DPEMBR~1\AppData\Local\Temp\SNAGHTMLaaffd4.PNG"/>
          <p:cNvPicPr/>
          <p:nvPr/>
        </p:nvPicPr>
        <p:blipFill>
          <a:blip r:embed="rId1"/>
          <a:stretch/>
        </p:blipFill>
        <p:spPr>
          <a:xfrm>
            <a:off x="228600" y="1447920"/>
            <a:ext cx="8529480" cy="4952880"/>
          </a:xfrm>
          <a:prstGeom prst="rect">
            <a:avLst/>
          </a:prstGeom>
          <a:ln w="0">
            <a:noFill/>
          </a:ln>
        </p:spPr>
      </p:pic>
      <p:sp>
        <p:nvSpPr>
          <p:cNvPr id="1479" name="AutoShape 6"/>
          <p:cNvSpPr/>
          <p:nvPr/>
        </p:nvSpPr>
        <p:spPr>
          <a:xfrm>
            <a:off x="3352680" y="5376960"/>
            <a:ext cx="1905120" cy="609480"/>
          </a:xfrm>
          <a:solidFill>
            <a:srgbClr val="ffffff"/>
          </a:solidFill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Franklin Gothic Demi"/>
              </a:rPr>
              <a:t>The difference here must be 0.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AutoShape 7"/>
          <p:cNvSpPr/>
          <p:nvPr/>
        </p:nvSpPr>
        <p:spPr>
          <a:xfrm>
            <a:off x="6726240" y="152280"/>
            <a:ext cx="2341440" cy="990720"/>
          </a:xfrm>
          <a:solidFill>
            <a:srgbClr val="ffffff"/>
          </a:solidFill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lick here if you want to see only transactions before the statement ending d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a successful reconciliation you can gener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Reconciliation Summar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repo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Reconciliation Detail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repo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Previous Reconciliation Report displ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ummar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tail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pt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ick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spla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to view the repo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ick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rin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to print the repo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Beginning Balance Field erro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e or more reconciled transactions were voided, deleted, or changed since the last reconcili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user removed the checkmark from one or more reconciled transactions in the account register since the last reconcili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orrectly Recorded transa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crepancy between a transaction in QuickBooks and a transaction on the bank statemen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on 1: Use the Reconciliation Discrepancy Repor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view the report for any changes to cleared transaction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er the corr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on 2: Undo the Bank Reconcili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e Begin Reconciliation window, select the bank Account and click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ocate Discrepanc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Undo Last Reconcilia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made the err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ke the correc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the bank made an err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er a transaction in the bank account register to adjust your balance for the err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void a check, double-click the transaction in the Reconcile window, select the Edit menu and select Void Check and then return to Reconcile windo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5:06:04Z</dcterms:modified>
  <cp:revision>138</cp:revision>
  <dc:subject/>
  <dc:title>Chapter 4 Bank Reconciliation</dc:title>
</cp:coreProperties>
</file>